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31BD-5156-4238-B458-3A8C9F55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65CB-4034-4FFC-B8D5-92FBE0F2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3F6F-FA7F-4F04-8776-7D4B6FFBB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4010-2103-48E2-8C37-3F2E371B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AEAB-F9DA-4B98-9A67-F1646EE7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DDE-6626-4BBF-B2A4-F6EE347F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773-F512-4702-AC44-0DBCD602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106-32A6-4E64-8569-AB34E13F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2510-5A67-490B-88F2-A50FCB4C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21DC-D4DC-4B42-879A-DE1C623E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0168-3701-480D-BE17-C346B00F6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210-31FA-4DDD-A280-A0810470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476D-9785-4A97-B8FF-CA995FE7D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7840" y="217440"/>
            <a:ext cx="442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ural tub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857680" y="12193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4600" y="522288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ural plate-&gt; neural keel-&gt; neural rod-&gt; neural tube-&gt;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eds in and anterior to posterior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The image “http://www.ans.iastate.edu/research/reecy/images/reecy/reecy_image5.gif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3838680" y="457200"/>
            <a:ext cx="3247920" cy="5324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378800" y="365760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ural c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95480" y="3352320"/>
            <a:ext cx="45720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8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60440" y="1411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r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019920"/>
            <a:ext cx="88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wo fields fuse into a tube, which undergoes looping and addition of neural crest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21:56:26Z</dcterms:created>
  <dc:creator>Melissa Haendel</dc:creator>
  <dc:description/>
  <dc:language>en-US</dc:language>
  <cp:lastModifiedBy>zfin user</cp:lastModifiedBy>
  <dcterms:modified xsi:type="dcterms:W3CDTF">2008-05-19T20:50:24Z</dcterms:modified>
  <cp:revision>5</cp:revision>
  <dc:subject/>
  <dc:title>Slide 1</dc:title>
</cp:coreProperties>
</file>